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618-C35F-4A35-96E5-6D870809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56E-D96F-456C-AC55-53C9B995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D92-DDBD-4822-9739-AAE6850B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676-8FF1-4026-86D9-9D930C7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9C65-7209-4FC9-A71D-07E4D645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CD8-EDB2-49A8-B11F-6A7B845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42A-47DB-4741-A3ED-EC0E1E35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9EE-A9EE-416F-8561-1A102570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757-F3E1-4C69-B799-893287B8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CC0-A57E-4F1E-92C6-7FA4834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8CC-B2DC-4E09-A05D-F49E71C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9E9-8C43-436C-AF8F-398E1A7D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BD60-4789-4CD3-8507-3A335EAB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28.xml"/><Relationship Id="rId5" Type="http://schemas.openxmlformats.org/officeDocument/2006/relationships/slide" Target="slide2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30.xml"/><Relationship Id="rId9" Type="http://schemas.openxmlformats.org/officeDocument/2006/relationships/slide" Target="slide24.xml"/><Relationship Id="rId10" Type="http://schemas.openxmlformats.org/officeDocument/2006/relationships/slide" Target="slide7.xml"/><Relationship Id="rId11" Type="http://schemas.openxmlformats.org/officeDocument/2006/relationships/slide" Target="slide17.xml"/><Relationship Id="rId12" Type="http://schemas.openxmlformats.org/officeDocument/2006/relationships/slide" Target="slide32.xml"/><Relationship Id="rId13" Type="http://schemas.openxmlformats.org/officeDocument/2006/relationships/slide" Target="slide25.xml"/><Relationship Id="rId14" Type="http://schemas.openxmlformats.org/officeDocument/2006/relationships/slide" Target="slide9.xml"/><Relationship Id="rId15" Type="http://schemas.openxmlformats.org/officeDocument/2006/relationships/slide" Target="slide19.xml"/><Relationship Id="rId16" Type="http://schemas.openxmlformats.org/officeDocument/2006/relationships/slide" Target="slide34.xml"/><Relationship Id="rId17" Type="http://schemas.openxmlformats.org/officeDocument/2006/relationships/slide" Target="slide26.xml"/><Relationship Id="rId18" Type="http://schemas.openxmlformats.org/officeDocument/2006/relationships/slide" Target="slide11.xml"/><Relationship Id="rId19" Type="http://schemas.openxmlformats.org/officeDocument/2006/relationships/slide" Target="slide21.xml"/><Relationship Id="rId20" Type="http://schemas.openxmlformats.org/officeDocument/2006/relationships/slide" Target="slide36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609480"/>
            <a:ext cx="6858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Let’s Play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743200"/>
            <a:ext cx="7162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Jeopardy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228600"/>
            <a:ext cx="8381880" cy="71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wonder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shak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1219320"/>
            <a:ext cx="739152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shake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2209680"/>
            <a:ext cx="7696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look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1447920"/>
            <a:ext cx="754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look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09680"/>
            <a:ext cx="83059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bak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bak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2209680"/>
            <a:ext cx="76960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lov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lov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209680"/>
            <a:ext cx="79246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snap + ed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62120" y="685800"/>
          <a:ext cx="7696080" cy="5389560"/>
        </p:xfrm>
        <a:graphic>
          <a:graphicData uri="http://schemas.openxmlformats.org/drawingml/2006/table">
            <a:tbl>
              <a:tblPr/>
              <a:tblGrid>
                <a:gridCol w="1539720"/>
                <a:gridCol w="1538280"/>
                <a:gridCol w="1540080"/>
                <a:gridCol w="1538280"/>
                <a:gridCol w="1539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ot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ng 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ding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 or 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wel Sou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9a5"/>
                    </a:soli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33cc"/>
                        </a:gs>
                        <a:gs pos="100000">
                          <a:srgbClr val="00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447920"/>
            <a:ext cx="86104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snapp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2133720"/>
            <a:ext cx="83055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Comic Sans MS"/>
              </a:rPr>
              <a:t>hope + ed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447920"/>
            <a:ext cx="754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hoped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4400" y="914400"/>
            <a:ext cx="72388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Name a word with the same  vowel sound as 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914400"/>
            <a:ext cx="7238880" cy="85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e a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st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391520" y="48769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914400"/>
            <a:ext cx="72388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14400" y="1066680"/>
            <a:ext cx="754380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e as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mood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914400"/>
            <a:ext cx="72388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ame a word with the same vowel sound as 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Comic Sans MS"/>
              </a:rPr>
              <a:t>shou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914400"/>
            <a:ext cx="7238880" cy="57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ame a word with the same vowel sound as i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Comic Sans MS"/>
              </a:rPr>
              <a:t>boas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cook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905120"/>
            <a:ext cx="8153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coo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grinn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go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3520" y="990720"/>
            <a:ext cx="8153280" cy="70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slide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219320"/>
            <a:ext cx="8153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000000"/>
                </a:solidFill>
                <a:latin typeface="Comic Sans MS"/>
              </a:rPr>
              <a:t>sli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hum 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905120"/>
            <a:ext cx="8153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hu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905120"/>
            <a:ext cx="8153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Comic Sans MS"/>
              </a:rPr>
              <a:t>dive+ 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990720"/>
            <a:ext cx="815364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000000"/>
                </a:solidFill>
                <a:latin typeface="Comic Sans MS"/>
              </a:rPr>
              <a:t>div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wi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1219320"/>
            <a:ext cx="70866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wish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1219320"/>
            <a:ext cx="739152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grin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bo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219320"/>
            <a:ext cx="7086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boat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pea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1219320"/>
            <a:ext cx="85345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peach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fo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219320"/>
            <a:ext cx="7086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000000"/>
                </a:solidFill>
                <a:latin typeface="Comic Sans MS"/>
              </a:rPr>
              <a:t>foxes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1447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More than one mat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21932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matches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hoping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219320"/>
            <a:ext cx="7391520" cy="84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hope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pushes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219320"/>
            <a:ext cx="739152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900" spc="-1" strike="noStrike">
                <a:solidFill>
                  <a:srgbClr val="000000"/>
                </a:solidFill>
                <a:latin typeface="Comic Sans MS"/>
              </a:rPr>
              <a:t>push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29400" y="45720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12193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mic Sans MS"/>
              </a:rPr>
              <a:t>What is the root word of wonderful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2:14:13Z</dcterms:created>
  <dc:creator>Cathie Metheny</dc:creator>
  <dc:description/>
  <dc:language>en-US</dc:language>
  <cp:lastModifiedBy>lbrannan</cp:lastModifiedBy>
  <dcterms:modified xsi:type="dcterms:W3CDTF">2009-05-19T13:08:20Z</dcterms:modified>
  <cp:revision>10</cp:revision>
  <dc:subject/>
  <dc:title>Slide 1</dc:title>
</cp:coreProperties>
</file>